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8E4-7A20-4AE6-8916-AB915F5E1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CD6C-270C-4002-B2BD-45F4246F4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A1E4-16AF-4D28-83A2-4576D4A06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D25E-58A9-4423-81DC-2A8244032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FCC-3E8F-4E26-9601-3DBAE9EB0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A71-2705-4115-8132-364F5E589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094-A9A9-4C61-8A5B-5BE919572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A90-ED5A-4119-A7F2-5839D36B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FCE-2C30-4A79-A46D-ABA17B33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88A-BC49-4867-9396-23401574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CBF-4688-4E4C-8F66-9C1A446B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84E0-DB49-420F-9D16-C67E06F3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1B9-F099-4100-B405-75151B3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8532-A406-4B0F-9CF1-07F4469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8765-3C9A-44B5-8916-A3037445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A95-74D8-4EB1-AE31-65F9A408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E39-4862-4954-A869-00CD283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15B4-EBB4-4F16-8517-D94CE386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04D-52B0-452F-A4D7-90AD032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203-76DB-4B68-8417-A19ECAB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A3F8-6C35-4E8F-8909-B8F4C54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EBF9-0669-4353-8B49-AAEC933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3CE5-8E35-4D80-89D9-A92DF097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95A2-32D2-4CA3-9429-9A500BD4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D1D-9EB6-4C23-9F4A-55FB8AD4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657-F4D5-42EC-92E0-BECFAD0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18F-6D35-4AEF-BBD0-0A43EA1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97F-75BE-498E-9312-32ABB52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992-330E-43A3-AE00-ECFD4CA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DB3-9362-4F3A-A259-2893691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964-82CA-41B8-B63E-1CF7AE7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B9A-29AC-46DC-9CF4-478FE32A7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3DF-426F-4775-8842-A0D993B86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42900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DC2-02D6-413C-98AA-162297F08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074-25A2-42A3-98AD-4CEA32FA7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78EE-2485-4AC0-B1F8-DF50AC5B5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B65-CEBF-475D-AD99-7BA0D01C0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75B-9861-4BFE-A5BA-C7267B895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FCA-21CF-4D37-BFA1-584975E87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D23-0991-41A8-B2F4-934090EA7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02-09T17:21:09Z</dcterms:modified>
  <cp:revision>18</cp:revision>
  <dc:subject/>
  <dc:title>Слайд 1</dc:title>
</cp:coreProperties>
</file>